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30.xml" ContentType="application/vnd.openxmlformats-officedocument.theme+xml"/>
  <Override PartName="/ppt/theme/theme42.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92.xml.rels" ContentType="application/vnd.openxmlformats-package.relationships+xml"/>
  <Override PartName="/ppt/slideLayouts/_rels/slideLayout487.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485.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77.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76.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83.xml.rels" ContentType="application/vnd.openxmlformats-package.relationships+xml"/>
  <Override PartName="/ppt/slideLayouts/_rels/slideLayout478.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69.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50.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0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48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460.xml" ContentType="application/vnd.openxmlformats-officedocument.presentationml.slideLayout+xml"/>
  <Override PartName="/ppt/slideLayouts/slideLayout461.xml" ContentType="application/vnd.openxmlformats-officedocument.presentationml.slideLayout+xml"/>
  <Override PartName="/ppt/slideLayouts/slideLayout462.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66.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52.xml" ContentType="application/vnd.openxmlformats-officedocument.presentationml.slideLayout+xml"/>
  <Override PartName="/ppt/slideLayouts/slideLayout450.xml" ContentType="application/vnd.openxmlformats-officedocument.presentationml.slideLayout+xml"/>
  <Override PartName="/ppt/slideLayouts/slideLayout440.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51.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00.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487.xml" ContentType="application/vnd.openxmlformats-officedocument.presentationml.slideLayout+xml"/>
  <Override PartName="/ppt/slideLayouts/slideLayout382.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486.xml" ContentType="application/vnd.openxmlformats-officedocument.presentationml.slideLayout+xml"/>
  <Override PartName="/ppt/slideLayouts/slideLayout381.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380.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Lst>
  <p:notesMasterIdLst>
    <p:notesMasterId r:id="rId43"/>
  </p:notesMasterIdLst>
  <p:sldIdLst>
    <p:sldId id="256" r:id="rId44"/>
    <p:sldId id="257" r:id="rId45"/>
    <p:sldId id="258" r:id="rId46"/>
    <p:sldId id="259" r:id="rId47"/>
    <p:sldId id="260" r:id="rId48"/>
    <p:sldId id="261" r:id="rId49"/>
    <p:sldId id="262" r:id="rId50"/>
    <p:sldId id="263" r:id="rId51"/>
    <p:sldId id="264" r:id="rId52"/>
    <p:sldId id="265" r:id="rId53"/>
    <p:sldId id="266" r:id="rId54"/>
    <p:sldId id="267" r:id="rId55"/>
    <p:sldId id="26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notesMaster" Target="notesMasters/notesMaster1.xml"/><Relationship Id="rId44" Type="http://schemas.openxmlformats.org/officeDocument/2006/relationships/slide" Target="slides/slide1.xml"/><Relationship Id="rId45" Type="http://schemas.openxmlformats.org/officeDocument/2006/relationships/slide" Target="slides/slide2.xml"/><Relationship Id="rId46" Type="http://schemas.openxmlformats.org/officeDocument/2006/relationships/slide" Target="slides/slide3.xml"/><Relationship Id="rId47" Type="http://schemas.openxmlformats.org/officeDocument/2006/relationships/slide" Target="slides/slide4.xml"/><Relationship Id="rId48" Type="http://schemas.openxmlformats.org/officeDocument/2006/relationships/slide" Target="slides/slide5.xml"/><Relationship Id="rId49" Type="http://schemas.openxmlformats.org/officeDocument/2006/relationships/slide" Target="slides/slide6.xml"/><Relationship Id="rId50" Type="http://schemas.openxmlformats.org/officeDocument/2006/relationships/slide" Target="slides/slide7.xml"/><Relationship Id="rId51" Type="http://schemas.openxmlformats.org/officeDocument/2006/relationships/slide" Target="slides/slide8.xml"/><Relationship Id="rId52" Type="http://schemas.openxmlformats.org/officeDocument/2006/relationships/slide" Target="slides/slide9.xml"/><Relationship Id="rId53" Type="http://schemas.openxmlformats.org/officeDocument/2006/relationships/slide" Target="slides/slide10.xml"/><Relationship Id="rId54" Type="http://schemas.openxmlformats.org/officeDocument/2006/relationships/slide" Target="slides/slide11.xml"/><Relationship Id="rId55" Type="http://schemas.openxmlformats.org/officeDocument/2006/relationships/slide" Target="slides/slide12.xml"/><Relationship Id="rId56" Type="http://schemas.openxmlformats.org/officeDocument/2006/relationships/slide" Target="slides/slide1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16" name="PlaceHolder 2"/>
          <p:cNvSpPr>
            <a:spLocks noGrp="1"/>
          </p:cNvSpPr>
          <p:nvPr>
            <p:ph type="dt" idx="10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9" name="PlaceHolder 5"/>
          <p:cNvSpPr>
            <a:spLocks noGrp="1"/>
          </p:cNvSpPr>
          <p:nvPr>
            <p:ph type="ftr" idx="10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0" name="PlaceHolder 6"/>
          <p:cNvSpPr>
            <a:spLocks noGrp="1"/>
          </p:cNvSpPr>
          <p:nvPr>
            <p:ph type="sldNum" idx="11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BC30-5935-4E4D-A291-3AD395152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43000" y="685800"/>
            <a:ext cx="4572000" cy="3429000"/>
          </a:xfrm>
          <a:prstGeom prst="rect">
            <a:avLst/>
          </a:prstGeom>
          <a:ln w="0">
            <a:noFill/>
          </a:ln>
        </p:spPr>
      </p:sp>
      <p:sp>
        <p:nvSpPr>
          <p:cNvPr id="1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9BB4-D61E-402B-AB39-D4D07E702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50DF-8945-4EE4-8BD9-71125FC73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rominent model for understanding learning styles, called Kolb’s cycle of learning, conceptualizes learning preferences along four dimensions: feeling, thinking, watching, and doing.</a:t>
            </a:r>
            <a:r>
              <a:rPr b="0" lang="en-US" sz="1200" spc="-1" strike="noStrike" baseline="30000">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5.1 depicts how the watching–doing and feeling–thinking dimensions of the cycle of learning theory result in four types of l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143000" y="685800"/>
            <a:ext cx="4572000" cy="3429000"/>
          </a:xfrm>
          <a:prstGeom prst="rect">
            <a:avLst/>
          </a:prstGeom>
          <a:ln w="0">
            <a:noFill/>
          </a:ln>
        </p:spPr>
      </p:sp>
      <p:sp>
        <p:nvSpPr>
          <p:cNvPr id="1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elp your audience by speaking more slowly and articulating as clearly as you can. By slowing your speaking rate, you give yourself additional time to pronounce difficult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hen you are speaking to audiences who are different from you, you may need to conduct additional research to find statistics, examples, and other supporting material that will be meaningful to the audience.  Or you may need to elaborate on ideas that would be self-explanatory in your own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ADED-1929-49D3-90CD-F08535AC3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sldImg"/>
          </p:nvPr>
        </p:nvSpPr>
        <p:spPr>
          <a:xfrm>
            <a:off x="1143000" y="685800"/>
            <a:ext cx="4572000" cy="3429000"/>
          </a:xfrm>
          <a:prstGeom prst="rect">
            <a:avLst/>
          </a:prstGeom>
          <a:ln w="0">
            <a:noFill/>
          </a:ln>
        </p:spPr>
      </p:sp>
      <p:sp>
        <p:nvSpPr>
          <p:cNvPr id="1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the challenges you face with your audience and planning how you might meet them will provide a guide to direct your research efforts and aid you as you develop the speech. Your adaptation plan should answer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8541-C83D-478B-9961-5D7F399E8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143000" y="685800"/>
            <a:ext cx="4572000" cy="3429000"/>
          </a:xfrm>
          <a:prstGeom prst="rect">
            <a:avLst/>
          </a:prstGeom>
          <a:ln w="0">
            <a:noFill/>
          </a:ln>
        </p:spPr>
      </p:sp>
      <p:sp>
        <p:nvSpPr>
          <p:cNvPr id="1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the challenges you face with your audience and planning how you might meet them will provide a guide to direct your research efforts and aid you as you develop the speech. Your adaptation plan should answer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BEA7-BEDC-4318-92C7-42E52E029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F743-F1E2-49BC-B556-BB776808C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43000" y="685800"/>
            <a:ext cx="4572000" cy="3429000"/>
          </a:xfrm>
          <a:prstGeom prst="rect">
            <a:avLst/>
          </a:prstGeom>
          <a:ln w="0">
            <a:noFill/>
          </a:ln>
        </p:spPr>
      </p:sp>
      <p:sp>
        <p:nvSpPr>
          <p:cNvPr id="1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oncerns about adapting to your audience will inform your research efforts, your choice of main points, the supporting material that you will use to develop those points, and even the jokes you might want to tell. So recognizing audience adaptation needs lays the foundation for the work that follows. </a:t>
            </a:r>
            <a:endParaRPr b="0" lang="en-US" sz="1200" spc="-1" strike="noStrike">
              <a:solidFill>
                <a:srgbClr val="000000"/>
              </a:solidFill>
              <a:latin typeface="Arial"/>
            </a:endParaRPr>
          </a:p>
        </p:txBody>
      </p:sp>
      <p:sp>
        <p:nvSpPr>
          <p:cNvPr id="1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1E67-FBB5-459C-9DDE-6C6B587AC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udience disposition is the knowledge and opinions your audience has about your topic before they hear you speak. Recall that this information helped you narrow the topic and determine your speech goal. You should also consider initial audience disposition when determining your main points, selecting supporting material, and making language choices.</a:t>
            </a:r>
            <a:endParaRPr b="0" lang="en-US" sz="1200" spc="-1" strike="noStrike">
              <a:solidFill>
                <a:srgbClr val="000000"/>
              </a:solidFill>
              <a:latin typeface="Arial"/>
            </a:endParaRPr>
          </a:p>
        </p:txBody>
      </p:sp>
      <p:sp>
        <p:nvSpPr>
          <p:cNvPr id="1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8F39-5677-46AD-A151-654389DEB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43000" y="685800"/>
            <a:ext cx="4572000" cy="3429000"/>
          </a:xfrm>
          <a:prstGeom prst="rect">
            <a:avLst/>
          </a:prstGeom>
          <a:ln w="0">
            <a:noFill/>
          </a:ln>
        </p:spPr>
      </p:sp>
      <p:sp>
        <p:nvSpPr>
          <p:cNvPr id="1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e unique, with different knowledge, attitudes, philosophies, experiences, and ways of perceiving the world. So it is easy for audience members to assume they have nothing in common with you or with the other audience members. As a speaker, your goal is to identify and highlight common ground, a sense of shared background, knowledge, attitudes, experiences, and philosophies. You can build common ground by using personal pronouns, asking rhetorical questions, and drawing on common experiences.</a:t>
            </a:r>
            <a:endParaRPr b="0" lang="en-US" sz="1200" spc="-1" strike="noStrike">
              <a:solidFill>
                <a:srgbClr val="000000"/>
              </a:solidFill>
              <a:latin typeface="Arial"/>
            </a:endParaRPr>
          </a:p>
        </p:txBody>
      </p:sp>
      <p:sp>
        <p:nvSpPr>
          <p:cNvPr id="1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5B69-9F78-4EB3-987B-87C72F117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has </a:t>
            </a:r>
            <a:r>
              <a:rPr b="0" i="1" lang="en-US" sz="1200" spc="-1" strike="noStrike">
                <a:solidFill>
                  <a:srgbClr val="000000"/>
                </a:solidFill>
                <a:latin typeface="Arial"/>
              </a:rPr>
              <a:t>timeliness</a:t>
            </a:r>
            <a:r>
              <a:rPr b="0" lang="en-US" sz="1200" spc="-1" strike="noStrike">
                <a:solidFill>
                  <a:srgbClr val="000000"/>
                </a:solidFill>
                <a:latin typeface="Arial"/>
              </a:rPr>
              <a:t> when it is useful now or in the near future. You can increase the relevance of the information you present by showing how it is timely for a particula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ers are more likely to be interested in information that has </a:t>
            </a:r>
            <a:r>
              <a:rPr b="0" i="1" lang="en-US" sz="1200" spc="-1" strike="noStrike">
                <a:solidFill>
                  <a:srgbClr val="000000"/>
                </a:solidFill>
                <a:latin typeface="Arial"/>
              </a:rPr>
              <a:t>proximity</a:t>
            </a:r>
            <a:r>
              <a:rPr b="0" lang="en-US" sz="1200" spc="-1" strike="noStrike">
                <a:solidFill>
                  <a:srgbClr val="000000"/>
                </a:solidFill>
                <a:latin typeface="Arial"/>
              </a:rPr>
              <a:t>, a relationship to their personal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resent information on a topic that can have a serious physical, economic, or psychological </a:t>
            </a:r>
            <a:r>
              <a:rPr b="0" i="1" lang="en-US" sz="1200" spc="-1" strike="noStrike">
                <a:solidFill>
                  <a:srgbClr val="000000"/>
                </a:solidFill>
                <a:latin typeface="Arial"/>
              </a:rPr>
              <a:t>impact</a:t>
            </a:r>
            <a:r>
              <a:rPr b="0" lang="en-US" sz="1200" spc="-1" strike="noStrike">
                <a:solidFill>
                  <a:srgbClr val="000000"/>
                </a:solidFill>
                <a:latin typeface="Arial"/>
              </a:rPr>
              <a:t> on audience members, they will be interested in what you have to say.</a:t>
            </a:r>
            <a:endParaRPr b="0" lang="en-US" sz="1200" spc="-1" strike="noStrike">
              <a:solidFill>
                <a:srgbClr val="000000"/>
              </a:solidFill>
              <a:latin typeface="Arial"/>
            </a:endParaRPr>
          </a:p>
        </p:txBody>
      </p:sp>
      <p:sp>
        <p:nvSpPr>
          <p:cNvPr id="1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B6BD-D635-486B-A9FE-DC0FCCE10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43000" y="685800"/>
            <a:ext cx="4572000" cy="3429000"/>
          </a:xfrm>
          <a:prstGeom prst="rect">
            <a:avLst/>
          </a:prstGeom>
          <a:ln w="0">
            <a:noFill/>
          </a:ln>
        </p:spPr>
      </p:sp>
      <p:sp>
        <p:nvSpPr>
          <p:cNvPr id="1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act of credibility on speaker success has been a fundamental concept in public speaking since Aristotle described it as </a:t>
            </a:r>
            <a:r>
              <a:rPr b="0" i="1" lang="en-US" sz="1200" spc="-1" strike="noStrike">
                <a:solidFill>
                  <a:srgbClr val="000000"/>
                </a:solidFill>
                <a:latin typeface="Arial"/>
              </a:rPr>
              <a:t>ethos</a:t>
            </a:r>
            <a:r>
              <a:rPr b="0" lang="en-US" sz="1200" spc="-1" strike="noStrike">
                <a:solidFill>
                  <a:srgbClr val="000000"/>
                </a:solidFill>
                <a:latin typeface="Arial"/>
              </a:rPr>
              <a:t> more than 2,000 years a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isteners perceive you to be a knowledgeable expert, they will perceive you as credible. Their assessment of your </a:t>
            </a:r>
            <a:r>
              <a:rPr b="0" i="1" lang="en-US" sz="1200" spc="-1" strike="noStrike">
                <a:solidFill>
                  <a:srgbClr val="000000"/>
                </a:solidFill>
                <a:latin typeface="Arial"/>
              </a:rPr>
              <a:t>knowledge and ex</a:t>
            </a:r>
            <a:r>
              <a:rPr b="0" lang="en-US" sz="1200" spc="-1" strike="noStrike">
                <a:solidFill>
                  <a:srgbClr val="000000"/>
                </a:solidFill>
                <a:latin typeface="Arial"/>
              </a:rPr>
              <a:t>pertise depends on how well you convince them that you are qualified to speak on the to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a:t>
            </a:r>
            <a:r>
              <a:rPr b="0" i="1" lang="en-US" sz="1200" spc="-1" strike="noStrike">
                <a:solidFill>
                  <a:srgbClr val="000000"/>
                </a:solidFill>
                <a:latin typeface="Arial"/>
              </a:rPr>
              <a:t>trustworthiness</a:t>
            </a:r>
            <a:r>
              <a:rPr b="0" lang="en-US" sz="1200" spc="-1" strike="noStrike">
                <a:solidFill>
                  <a:srgbClr val="000000"/>
                </a:solidFill>
                <a:latin typeface="Arial"/>
              </a:rPr>
              <a:t> is the extent to which the audience can believe that what you say is accurate, true, and in their best interests. The more your audience sees you as trustworthy, the more credible you will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ersonableness</a:t>
            </a:r>
            <a:r>
              <a:rPr b="0" lang="en-US" sz="1200" spc="-1" strike="noStrike">
                <a:solidFill>
                  <a:srgbClr val="000000"/>
                </a:solidFill>
                <a:latin typeface="Arial"/>
              </a:rPr>
              <a:t> is the extent to which you project an agreeable or pleasing personality. The more your listeners like you, the more likely they are to believe what you tell them.</a:t>
            </a:r>
            <a:endParaRPr b="0" lang="en-US" sz="1200" spc="-1" strike="noStrike">
              <a:solidFill>
                <a:srgbClr val="000000"/>
              </a:solidFill>
              <a:latin typeface="Arial"/>
            </a:endParaRPr>
          </a:p>
        </p:txBody>
      </p:sp>
      <p:sp>
        <p:nvSpPr>
          <p:cNvPr id="1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7CC1-207D-46CF-8236-204F7B199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43000" y="685800"/>
            <a:ext cx="4572000" cy="3429000"/>
          </a:xfrm>
          <a:prstGeom prst="rect">
            <a:avLst/>
          </a:prstGeom>
          <a:ln w="0">
            <a:noFill/>
          </a:ln>
        </p:spPr>
      </p:sp>
      <p:sp>
        <p:nvSpPr>
          <p:cNvPr id="1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apt the information you present so that audience members can easily follow what you are saying and remember it when you are through. These guidelines can help you.</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a:t>
            </a:r>
            <a:r>
              <a:rPr b="0" i="1" lang="en-US" sz="1200" spc="-1" strike="noStrike">
                <a:solidFill>
                  <a:srgbClr val="000000"/>
                </a:solidFill>
                <a:latin typeface="Arial"/>
              </a:rPr>
              <a:t>learning style</a:t>
            </a:r>
            <a:r>
              <a:rPr b="0" lang="en-US" sz="1200" spc="-1" strike="noStrike">
                <a:solidFill>
                  <a:srgbClr val="000000"/>
                </a:solidFill>
                <a:latin typeface="Arial"/>
              </a:rPr>
              <a:t> is a person’s preferred way of receiving information. Because people differ in how they prefer to learn, you should present your ideas in ways that make it easy for all audience members to understand and remember what you are saying.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when listeners become confused or forget basic information, they lose interest in what is being said. If your speech is more than a couple of minutes long, you can use transitions to orient your audience. A </a:t>
            </a:r>
            <a:r>
              <a:rPr b="0" i="1" lang="en-US" sz="1200" spc="-1" strike="noStrike">
                <a:solidFill>
                  <a:srgbClr val="000000"/>
                </a:solidFill>
                <a:latin typeface="Arial"/>
              </a:rPr>
              <a:t>transition</a:t>
            </a:r>
            <a:r>
              <a:rPr b="0" lang="en-US" sz="1200" spc="-1" strike="noStrike">
                <a:solidFill>
                  <a:srgbClr val="000000"/>
                </a:solidFill>
                <a:latin typeface="Arial"/>
              </a:rPr>
              <a:t> is a sentence or two that summarizes one main point and introduces the next on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pecific yet vivid language, personalizing the information you present, and comparing new ideas with ones the audience already understands can also help listeners remember what you are saying.</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sy way to adapt material to your audience is to compare new ideas with ideas the audience already understands. As you prepare, identify places where you can use comparisons.</a:t>
            </a:r>
            <a:endParaRPr b="0" lang="en-US" sz="1200" spc="-1" strike="noStrike">
              <a:solidFill>
                <a:srgbClr val="000000"/>
              </a:solidFill>
              <a:latin typeface="Arial"/>
            </a:endParaRPr>
          </a:p>
        </p:txBody>
      </p:sp>
      <p:sp>
        <p:nvSpPr>
          <p:cNvPr id="1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DCAD-E5AE-459F-AC7C-F817FB0EB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5A2B5-9554-49F8-9350-A877DAF7A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5DAB0-99DE-4099-8D6F-F467CD64F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CC7DC8-FA2F-40DE-90D1-23F456CF41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C41A7B-E321-4FF9-9017-832CE43A22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585ADC-EDF4-4133-8EEE-6FBA18349C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347071-4937-467E-9D7E-49D429415C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EB8BEE-CBE1-4384-BFBC-0CA2D6853E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DD3748-441D-4951-ACA2-4D3331E03C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C01D8D-43C8-4118-80A8-129448EF7E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21184B-236A-4BC2-ABEA-130BBE7283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CFCC03-4699-4963-AC85-16DF9C4AA2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90240F3-9889-4F25-9B4F-1CDFE5D373B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86EFD-E93C-4694-9DCE-9D7A04AC6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2B37F1-98FF-494B-B083-E0AA3FFC23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28D16F-D1E8-4D86-A88F-230508BC78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E6E9EA-299F-4FD4-80A4-16C7A8A7D5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C238E1-5829-4D2C-BE3E-F027BEE9F6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1A7F0B-7D51-497F-A9D8-FC0C8B23D1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72A5AB-595C-4B5E-B109-D58B84761A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914D66-D1C6-495E-A51F-2CC1432986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8EABBD-BA50-4770-880B-D0358E04F8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207FD7-BB8B-4B61-9F68-8D1CC7EAA9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22C15ED-3A0E-4AF2-B98E-C017B48DE1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13D69-E113-42FA-B78E-4EB1DAEA1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5A8472-A2C8-4A9F-A05D-2F27F9442D6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D1A6095-B168-4591-B619-23F294014E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6DC920-6EA2-4AE8-9522-B08B1D350F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734F49-CF75-491D-BBF6-A2FD2733A6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5E5946-79AE-490C-9361-679F49B2E3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DC1F8D-6C15-4877-826E-D490726629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8D7586-B62E-4124-A614-5964C51753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D0E70D-9AAC-43C5-B996-EC2C78BA38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B4845D-A183-48E8-970C-BB1F1C023F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37E3C2-22FE-4742-A17F-7F48CF3AD2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9ADB6-8D50-4C34-9F51-429B7837A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241078-1C8F-47D5-A5BB-9AA1C2812E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907679-D437-4687-8FDC-A5FDAA5176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18C217-3C25-46D6-AD5E-2BABD37000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9BB6EDC-4D3E-46B0-9620-781137344F7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B6D8C8-196A-4F69-937E-F5B4C7CDDB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9F8B65-DDC0-4B19-9053-EFC4B22469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4446E9-54F1-46E0-AC0C-0613174D45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FBB5BE-D344-40EA-953A-1E138F8BF9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3AD747-7A4A-45EF-95AB-2298DB6E82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7C431F-55B2-43B1-9435-9D755689FE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D1BEE-8832-4B57-BF56-F4098BB27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23B9DF-E111-4032-939A-7C3C09F841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998BFD-72F6-4ED4-8847-C9CC95311D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853485-1D7B-45F7-96C7-8FA239DD6C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D4F3EB4-F663-4846-AF2C-A0228BAC1B0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ABD3E01-5B5E-4677-8533-7A4CA32667D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54A2888-77CA-48CA-AE62-EECC58205A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5DF553-01B8-481C-97B8-2FD87025E4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E76996-F89F-4BD7-B69A-2BA8B1A347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C1E0C2F-2952-48D2-9678-A5B7D577D6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E8FE5A0-0BCE-47A3-99AC-C4EAF40CCA4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C8CEA-6FE7-4523-AABF-12CAC3B60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FF4EC1-B94F-40EA-AFF0-32B7EF41A0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E39835-ABD2-4BBF-87A0-B09C750AEE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D8C0E5-0136-426B-9C3F-10A893320A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03913D-7F36-4446-BA9E-0C32FB7F0B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D9063E-1B82-4F68-BE07-DF42D3128B8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A18B422-10C9-457B-A4C5-8B75CD0D471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035615B-5FCD-4022-93CA-BC3AB474739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693CAB5-A0B2-43FC-8D02-D69BA88BE56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4AEC371-FCAE-46E2-BA75-8E76540763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05AF5B-1B8B-4A06-9258-ACD2433351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18919-48F2-4B95-A535-8AFABCFC3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C592CAD-DC84-4CBF-915E-0E7B7491148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7432231-9627-4479-B052-218FAB50E1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C355A20-DF87-4B56-995E-ABEDB1347F8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9453E7-7903-4C57-8846-F0B06AE239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29C9BC-7B2D-47FC-8D46-B5141821C2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A0AC71-DB56-4766-9390-C1D3DD2754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9A15BB-D4D1-4505-A755-0B727258E4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685D46F-49AC-41AA-9C64-2351DF40B7B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F4722BD-D817-48CF-8128-72533CD3D13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B8E2B18-F2BF-4362-B292-40E0EFE393F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C554A-4299-4261-A2CF-F0481C0E5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38E0F6C-2C65-47BD-A055-34A726F5A54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1260B86-164F-48B4-A019-C3EDFBE5516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78AB728-4E52-4866-A730-E8BA9888AB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3A915EA-835C-4F9C-87A1-7EF7C9B6A3C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F7C148C-E6F2-4691-95E5-9D047AE5E06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3B6636-08FA-4BC7-A8C2-AFE7B116086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FE44AB-746B-4A09-A0DA-066E3CB46F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08EEC3-7B60-42E9-8E9C-5828B1CAE9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E9AF5D0-746E-468A-A8F6-4FC35FBF22E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1160D44-E9F5-4B0C-9B53-E9EF1B6E3EF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A34ED-C82A-43A1-B459-DB7556126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D6F48B2-008D-4C8E-828F-2737E95CAAE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A1C0FDD-1162-4E72-81D2-ACDCE0C82CA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6F7340A-968F-4146-9586-F37029A72B7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4580E25-C670-425E-8B77-80E7531DD9F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4DBF156-8EBB-4F44-BD23-AB740B53FF0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247B65F-FC33-4807-BD5F-F2FB4B935C9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98E042D-B3B8-40FD-AABD-C7EBF9242FD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2D8C225-75F4-428B-9E3E-8C8A2CCB0F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B93458-8651-4582-BC47-C5CBE7BB14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FE959B-0038-48F3-BAF9-595C3FE546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AFD65-BE01-4F56-BA1A-3BC4D78D0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7D067DB-B2EC-4451-952C-8719DEB4928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71FFC8B-7A4F-46E9-8C9E-BB69D1B3615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DDC8419-78EC-41C7-A2EB-461FB7181BE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6E74FE8-68AE-4D95-B668-4136FB0FCF4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49E9C3B-943C-40C2-A874-97C36DB9E76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481A4EE-A798-4A84-9D86-2EF1DAF8252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ADDC1CF-A57E-4115-BCF4-F96BFF3AEA8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56F2901-FF13-468F-B3EB-935B9178895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95500D4-940F-4FCA-BC9B-1F6BAB34176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4849EB-EE65-4D8C-9031-D164DE5378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56289-5378-4F19-80BF-200DBFA92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3BD49-BC38-4801-9F75-EAFFECB2B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C2EB809-B7AF-424A-A11F-24BBC2359F5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4F6D07A-3CFB-455B-B596-1EDABC6CEAC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293EBF0-1CD6-4063-98F7-EAF608067FF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7100240-30A3-43B4-B65F-8CDF99CE7CA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4ADA386-8336-4081-982B-24E940DDECE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DA4CE49-5E5E-474D-B37C-83056FC7BFA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3259F1E-0D0D-4E42-ADCE-49C495F7086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825C4B2-2151-46E3-9F51-AB2AE90D664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7A47367-3B4F-45C9-B41A-CF67185F43F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508893A-D3FA-43CA-8278-A46A4FFF23F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D2B81-90DC-452B-94C0-33781BCB7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F553F20-0500-422B-9680-EFE98494F9F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037A75A-8C35-48C6-8F42-B389C708A8D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AEC78BB-1631-46FB-AA38-1F1352B5B47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A906331-2DE5-4F79-91B6-D5ED747BC20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DE43E18-C1EB-4C4E-AF33-C32D4132A72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531A417-353E-4A08-A634-355E21BB770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C31B7D6-CBFE-4284-B13F-20D0B6356BB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91FDD81-FDEB-45AF-A37E-7029971C0C9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5CA3C29-9830-4A3B-AC2B-D1099CADCC4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DDF9A83-1443-43B2-86D1-352EF19EABD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6E25B-CA1D-42B2-B37B-74275050D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EB0395A-CEAD-4861-AC64-58FDC8A2203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BEA0FC0-1250-4EEF-B244-7770EBD7D4C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D28290C-8290-400E-B79D-88E2592A040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FE0CBCA-BC91-485C-B9F3-C87C0506970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02D5A80-D38F-4EFB-9058-4F7C6FDACB7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BD5DA6E-82D6-4AA9-9EE6-46FA851C6A3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021A221-584A-4E01-A51D-CB2FEC16118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E0C06D8-2816-4272-A790-8A26CE5BE61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25A0045-6D11-49BC-B9FF-6341EBA1ABA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815431E-36A7-439A-858D-8FBD97EE433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86AA1-3C65-47EE-A30C-756D26584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B78830D-06E4-44EC-A067-F2EED299EB1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12E1366-2A3D-4673-B76B-6229B053DF2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0FE529D-32A6-443B-A71C-B4194D14A44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00D4C7D-60B4-4018-B99F-6F643EBD61C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27FC3FE-6C72-4F3D-9278-5D2FFC1037F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6A05B5D-9336-48FF-9FA3-529C254890F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1C1C969-1C6F-4485-A8CE-975626E172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9B22827-BACE-4F08-AFAE-E6763231591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6C8684A-D12E-4B6E-BB27-46B15841FE7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56A2BF2-32E1-43EA-BA9C-F2DBC45081D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D1C28-5CFA-4C14-9C39-DBADCED08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DA9265C-5328-4387-8E75-129BC36846C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C12005F-1B77-48A9-968F-CDD7E022888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1353B02-C9AC-4B05-8607-97E3B5B163D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C9080FA-905B-4645-9FA9-E6C831CE97E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7DFE053-1324-40E9-8251-2F9D77E01DB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D2B4408-5794-4512-8721-10CD7ACEEEB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88D4E78-69B2-4D00-8A98-F83E543E85B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3282BB3-E4D9-40EE-88D0-D5CEEE694B7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FF319AD-4DB5-4DD6-B6B1-2C94D70D8B3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03028BF-8CFA-481D-96FF-FEC2610BA1D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7E3723-4D66-4450-9A9F-FE80CCED0C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BC4D901-DB06-4DFD-A0CF-FC9D6587479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8E1EF42-365D-4ECC-AD58-7173C61A2B4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0D00A52-476E-4474-B9EC-59A125C3479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AE6989B-DA59-4625-B946-4088BA72FA5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644DB4C-C2F9-405E-8661-A1E456A5DEF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A351EF1-C5DA-4900-9FC6-952CDF14170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24CEF8A-5CC5-40FE-A53E-6CE94E56067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EB07922-357A-4459-8140-3E93A03251F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5900981-F1EA-47C8-9A17-37450BC72B3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42ACD2A-92F6-484A-8960-3B6AA1AACBC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A13758-1019-46DE-A5BF-2494DD83E9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D9746EE-0295-4934-9F1C-80AFD3BAE87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40DC5A7-E40D-4AC6-8B2A-30636F7AB64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AFCAB83-80C3-49D9-B79F-5C946DE15A8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39D4709-7BAC-41BC-AFC5-BFE0739F339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8DFCC3F-0873-4817-9989-37124CC1D69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263A12E-F6D0-4BB9-A13C-C19BC1C60D0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7B080FA-2048-491C-B380-EE2107FA3F9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4038844-7669-43CD-BBD4-532E841903E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F359A1F-88A3-469D-AE44-070D05A3550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811C6E0-B34A-4271-A46F-222BF704391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700616-5EE4-4889-BF11-FF146433D8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B1ACFF1-4AE8-408D-BA2E-D4A42679D6B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8A70E71-DD8F-4ED6-92D1-1E960666876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916840D-2F2C-48A6-AA04-CA9B84ED837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189503C-0EE5-4210-810F-2328FD8B053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ED830F9-A3AD-4F2F-8681-858C899E927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9D19218-5DD1-49E4-8FF4-03FF7543F55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3099C07-8833-465B-8FA2-08CDE58E471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3ABB40F-4428-4401-A8D8-430C3FB7095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03A0B6E-9F59-41EB-8171-9A7EAB27854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7A0A008-E98F-46FE-9775-F366E2A9851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B2C69-7C59-422A-8F08-22C3707DC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1C1B2E6-5A9C-43D1-A602-57E595F05D8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13BF598-600D-4B2A-B880-A836FB03660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E2B73B0-B0F7-4909-B8AE-B0D52940CA6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49E5A6C-2BAB-4455-AD61-4522C0F7B03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EFBD939-CE2B-49E3-8739-15DC22AF54A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B117DBD-3862-47D8-AA09-589E671CE74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E64A63E-408B-4997-B08B-EE7FFA93A78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83A967D-2AE9-45D4-821F-381A1B9E0DA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92E1464-9CF3-476F-BCFD-697E7FFD245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85C70E3-F2FC-4EA7-91AD-79371F3EBB1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C8467D-974D-4265-912D-952681000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866C86D-7102-4EFF-B5BE-B3D9112E59B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BB979D6-8AA9-49F8-852B-BDA460A9DF9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E8FBE96-AF79-40B6-A45C-B18F254FE7D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C4F3290-2EC5-47DE-B194-1BEEF968F7E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EC5DF50-1B99-430A-B2A6-AF6C9F70CA9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0162EE8-4A4A-4A17-817B-4E9E73D82E0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C5344EF-B2FE-4D74-B06B-B9F00C6809C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CA3AA3D-7F3B-4D72-825B-F7D4BA37662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AFD0CD9-121B-4B19-97DD-EC180DE8D36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3133F78-0B44-409B-ADA9-4CB23E7E12B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9B275-F673-499C-A17E-07398497A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5B54B0-23FA-458B-89F8-6C76B2174C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4413AD7-BB6F-4F18-817A-1DC20F89EEE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69803DC-673A-43DD-9DF8-0A37896B9A1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31B42C1-E99B-4A07-8B66-EA44ADC8FBF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9DD6C22-5F7C-446D-8F50-70514CAFC9A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120742E-C172-4182-91A5-3D38186EA8D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024DA1C-C278-408C-93D7-C7C3DCA54BB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9FB860A-5F2C-4EE7-8CBE-A3B33BF0AC2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C60AF9B-F224-48C7-9BF9-13412AA8B9A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2EB8881-7D3F-41AB-A8B5-303CF5CBB4F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2C092D8-590B-40B5-91EE-C2D9B32E27A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C7B5D-FAF1-4DEF-AA7C-39827359F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8CF39D7-923A-4E98-8A58-DA5E8820ACC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F51FF3E-2408-42E1-8AE4-436CAA7EAFB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5AFFABB-20B6-47B5-B8FF-D92ED4F5075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3AF2BD-AE15-400C-90E7-C2A73D910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88ED05-A659-4FBC-9ACC-075FB67ED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1"/>
          </p:nvPr>
        </p:nvSpPr>
        <p:spPr/>
        <p:txBody>
          <a:bodyPr/>
          <a:p>
            <a:r>
              <a:t>Footer</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1"/>
          </p:nvPr>
        </p:nvSpPr>
        <p:spPr/>
        <p:txBody>
          <a:bodyPr/>
          <a:p>
            <a:r>
              <a:t>Footer</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dt" idx="8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dt" idx="8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9EA0D8-A60B-4B8C-8779-96C7585C1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dt" idx="8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dt" idx="8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dt" idx="8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dt" idx="8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dt" idx="8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dt" idx="8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dt" idx="8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dt" idx="8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dt" idx="8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dt" idx="8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12126E-6837-4546-AF52-1F9AE8F40C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dt" idx="8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dt" idx="8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dt" idx="8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dt" idx="8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dt" idx="8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dt" idx="8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dt" idx="8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dt" idx="8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dt" idx="8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dt" idx="8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D2373F-D911-41A9-A9B4-9BB568BD59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dt" idx="8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dt" idx="86"/>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dt" idx="86"/>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dt" idx="86"/>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dt" idx="86"/>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dt" idx="86"/>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dt" idx="86"/>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dt" idx="86"/>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dt" idx="86"/>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dt" idx="8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220F4E-F1FA-43EE-9EC8-B9ECD059AB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dt" idx="86"/>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dt" idx="86"/>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dt" idx="86"/>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dt" idx="88"/>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D8BE33-9E80-40EF-B61B-F547C5036F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dt" idx="88"/>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dt" idx="88"/>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dt" idx="90"/>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dt" idx="90"/>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dt" idx="90"/>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dt" idx="90"/>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dt" idx="9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9BFB13-88F1-48E7-B3DF-DAF48F866A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dt" idx="90"/>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dt" idx="90"/>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dt" idx="90"/>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dt" idx="90"/>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dt" idx="92"/>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dt" idx="92"/>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dt" idx="9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C2616-7E1F-4543-9711-7C43366F1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FF277-4310-4818-A287-6F68406C73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dt" idx="92"/>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dt" idx="92"/>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dt" idx="92"/>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dt" idx="92"/>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dt" idx="92"/>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dt" idx="92"/>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dt" idx="9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98E694-AD6C-49B0-BD24-382BAA8BFF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dt" idx="9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A1386A-056F-4B4E-A5C1-CD178AB35A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dt" idx="94"/>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2ECB6E-FA03-4A87-B1AD-79E9147E7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dt" idx="98"/>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238AC7-D0D6-4987-AE3D-09452E2221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dt" idx="98"/>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dt" idx="98"/>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dt" idx="10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396A7-23A3-46E9-8891-A02A57B7D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dt" idx="10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dt" idx="100"/>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dt" idx="102"/>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EFAA70-6857-44C7-9A7A-6A2181075B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dt" idx="102"/>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dt" idx="102"/>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dt" idx="10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F25AC0-C596-43DB-ADED-B155D20F67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dt" idx="10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861694-DBAE-42D6-AB33-9D4353EC4A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dt" idx="104"/>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dt" idx="106"/>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DC728E-402D-48BE-9C9D-2785156F91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dt" idx="106"/>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dt" idx="10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EAA4D-ACE2-40F9-BC5A-D1E5D1EF2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A49C3B-DAD3-4E77-84B7-9092F7DCD3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0A9460-C359-41D5-83D8-E8DEDA6973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14F0B2-8E88-40DF-AFDF-900BAAC2A6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980AC2-74C4-4F47-8483-F7717ABB2D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FD8BD9-68ED-49BB-8601-CB62E7C95C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0A62FD-81DB-4B28-BCF4-BA102A9F2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EB3F7A-D434-4B3A-A83B-C1B732506C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EDAF7F-18A1-400F-B4DE-DC2275C76D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8BEDD6-3D82-4853-9B80-080636DB9A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AC42F4-C83F-4C8C-BF4B-24F27AA307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D8351-247F-43A2-999B-8327A56AC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19BE14-C3FA-4265-A35A-6A717FB4EA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41EBE8-C9F6-4E2B-82B8-D98D7EEC95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4C6257-4B18-44F2-BC98-C5FFE8241F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E2585C-247B-43FD-88EA-40DB331F9F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AB9DB1-95A0-47D9-B45F-4F92018427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358C00-081A-4B61-A257-AF0B1C7C68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83B950-A7F6-42C3-A1E5-3F14D46B10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740F82-8ED0-4A0D-B3EE-484B995054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BA9D09-2907-4F21-90A8-C11A52949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63D05D-F26D-45EC-A018-74C2F5254D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D0015-5849-4E38-8289-30C907E1D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DB5BCE-6FD1-4731-A724-E971058135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ADE178-4053-423C-8784-87CAE9141E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ED09CE-6817-4AFB-A790-36462C3634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CEC619-5F35-43CA-9E5C-9C11CE6015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ECAE92-AA6B-4CEF-BEF3-77F518C1C2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3A35BB-E169-496C-818F-167D372A30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2BEBCF-DCD2-41CF-B425-55AF5C1292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CAF81B-3D03-4E55-A02D-97F0D87F81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EE8B4A-D4AF-4601-B8DA-764DAE6195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EFCE0D-79EA-4442-BF63-AAE75B71A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474C8-B53E-47E8-8BA3-3FCA33E07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42B440-98C5-4D83-9FF0-097FA8EA95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A4E40-E778-4CBE-AD14-C4BD4F9A49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59CF3C-7E01-43E6-AE59-70770FCBAD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B80CC1-159D-49E2-B76E-77FB5F69E7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B0EFC3-DB92-4613-B334-5881A326EF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08D13F-B906-434C-A61B-435EE2192E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FCBD4F-E775-4E1B-BB53-573108333E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229742-4C31-4960-A19F-F457F5B767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9CBAC3-4D7B-46C9-BA42-71A1DE4119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84BB07-49FA-406F-A317-E32D2EF360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5A93C-C9B1-4816-8A3B-6FDF81A83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BF0B52-F48F-422D-A3BE-4FBA28F4E0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EE3E2-2494-4244-BB7B-F0727ADD64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125F5F-AC8A-40CC-9D35-CD76B48785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E2F843-4CAC-48D4-8BA8-1317002AC3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B0DC0E-C7C1-4149-B8BE-EBEE982E86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3AF964-ECC2-452A-994C-DEC27E66EE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39F94F-3A3B-49D1-9C19-5C420E3570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CE1D0B-AEA6-4999-B8D8-413DA0D4A8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1C0B4F-3092-4C07-AFE6-26452B0974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622C6F-DA2D-4528-8071-AC66DD86DB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E30C-2274-4F1D-BC94-F05CC045C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0C89-65DB-4E45-8538-E3CED15820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D563-207B-49F8-A6A3-D711C58CB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2CE6-F967-4136-BEF6-CA3424EB9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5600-2476-4386-A432-D4FF36E62D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5523-5FE1-461E-8665-F6634B8C20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6191-A6AE-4DA0-9291-DE8A864510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361C-C739-4345-804E-C5AFF61869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8DF1-E0DC-48F7-B68D-1C8F24E9E9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A7B1-F7FF-433D-AEAD-6B432A22FC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5BB1-FD44-45DC-B575-7CDC26135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D4C0-9E57-470A-9F80-6A5AF2C70B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B156-5EFE-41FA-98A4-D7905EA3D2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64E3-51C7-47E5-99F4-8AEB8B914C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5FF4-033C-4B6B-9DEB-67DAF43B09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1816-7075-4DA2-976C-9E2B43521A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B0150-00B6-4780-B591-0B6C8241B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3953-C0A5-49FC-AA08-C96E81C1A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6125-4E12-4CDA-A2FC-DE7801FBDD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4"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4" name="PlaceHolder 3"/>
          <p:cNvSpPr>
            <a:spLocks noGrp="1"/>
          </p:cNvSpPr>
          <p:nvPr>
            <p:ph type="ftr" idx="8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4"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5BF0-E303-4E20-A5F5-41D3AC20E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5" name="PlaceHolder 3"/>
          <p:cNvSpPr>
            <a:spLocks noGrp="1"/>
          </p:cNvSpPr>
          <p:nvPr>
            <p:ph type="dt" idx="8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PlaceHolder 4"/>
          <p:cNvSpPr>
            <a:spLocks noGrp="1"/>
          </p:cNvSpPr>
          <p:nvPr>
            <p:ph type="ftr" idx="8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6" name="PlaceHolder 3"/>
          <p:cNvSpPr>
            <a:spLocks noGrp="1"/>
          </p:cNvSpPr>
          <p:nvPr>
            <p:ph type="dt" idx="8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PlaceHolder 4"/>
          <p:cNvSpPr>
            <a:spLocks noGrp="1"/>
          </p:cNvSpPr>
          <p:nvPr>
            <p:ph type="ftr" idx="8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7"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8" name="PlaceHolder 3"/>
          <p:cNvSpPr>
            <a:spLocks noGrp="1"/>
          </p:cNvSpPr>
          <p:nvPr>
            <p:ph type="dt" idx="9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4"/>
          <p:cNvSpPr>
            <a:spLocks noGrp="1"/>
          </p:cNvSpPr>
          <p:nvPr>
            <p:ph type="ftr" idx="9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9" name="PlaceHolder 3"/>
          <p:cNvSpPr>
            <a:spLocks noGrp="1"/>
          </p:cNvSpPr>
          <p:nvPr>
            <p:ph type="dt" idx="9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PlaceHolder 4"/>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0"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1" name="PlaceHolder 3"/>
          <p:cNvSpPr>
            <a:spLocks noGrp="1"/>
          </p:cNvSpPr>
          <p:nvPr>
            <p:ph type="dt" idx="9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PlaceHolder 4"/>
          <p:cNvSpPr>
            <a:spLocks noGrp="1"/>
          </p:cNvSpPr>
          <p:nvPr>
            <p:ph type="ftr" idx="9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2"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3"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4" name="PlaceHolder 3"/>
          <p:cNvSpPr>
            <a:spLocks noGrp="1"/>
          </p:cNvSpPr>
          <p:nvPr>
            <p:ph type="dt" idx="10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PlaceHolder 4"/>
          <p:cNvSpPr>
            <a:spLocks noGrp="1"/>
          </p:cNvSpPr>
          <p:nvPr>
            <p:ph type="ftr" idx="10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432F-1AEC-49B7-A67C-69BEFACC8E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5"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6"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72D9-4FFD-4D2B-BCA0-E0283C91A5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E0FE-8DF6-4C70-B611-35597CBFE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F622-762A-4974-915C-3E61E1025B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54A3-B9E0-4C1A-9945-2700DB1D16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3344-9444-4924-8B16-31F5845602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21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1" name="Text Box 6"/>
          <p:cNvSpPr/>
          <p:nvPr/>
        </p:nvSpPr>
        <p:spPr>
          <a:xfrm>
            <a:off x="0" y="2093760"/>
            <a:ext cx="9144000" cy="28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dapting to Audiences</a:t>
            </a:r>
            <a:br>
              <a:rPr sz="4800"/>
            </a:br>
            <a:r>
              <a:rPr b="1" lang="en-US" sz="4800" spc="-1" strike="noStrike">
                <a:solidFill>
                  <a:srgbClr val="000000"/>
                </a:solidFill>
                <a:latin typeface="Verdana"/>
              </a:rPr>
              <a:t>- Audience Analysis</a:t>
            </a:r>
            <a:endParaRPr b="0" lang="en-US" sz="4800" spc="-1" strike="noStrike">
              <a:solidFill>
                <a:srgbClr val="000000"/>
              </a:solidFill>
              <a:latin typeface="Arial"/>
            </a:endParaRPr>
          </a:p>
        </p:txBody>
      </p:sp>
      <p:sp>
        <p:nvSpPr>
          <p:cNvPr id="1722" name="Text Box 7"/>
          <p:cNvSpPr/>
          <p:nvPr/>
        </p:nvSpPr>
        <p:spPr>
          <a:xfrm>
            <a:off x="101520" y="-115920"/>
            <a:ext cx="904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4"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Kolb’s Cycle of Learning</a:t>
            </a:r>
            <a:endParaRPr b="0" lang="en-US" sz="4000" spc="-1" strike="noStrike">
              <a:solidFill>
                <a:srgbClr val="000000"/>
              </a:solidFill>
              <a:latin typeface="Arial"/>
            </a:endParaRPr>
          </a:p>
        </p:txBody>
      </p:sp>
      <p:pic>
        <p:nvPicPr>
          <p:cNvPr id="1746" name="Picture 6" descr=""/>
          <p:cNvPicPr/>
          <p:nvPr/>
        </p:nvPicPr>
        <p:blipFill>
          <a:blip r:embed="rId2"/>
          <a:stretch/>
        </p:blipFill>
        <p:spPr>
          <a:xfrm>
            <a:off x="2013120" y="2451240"/>
            <a:ext cx="5073480" cy="44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7"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you address listeners from ethnic and language groups different from your own, be sure to:</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o be understood when speaking in your second langu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culturally appropriate supporting material.</a:t>
            </a:r>
            <a:endParaRPr b="0" lang="en-US" sz="2800" spc="-1" strike="noStrike">
              <a:solidFill>
                <a:srgbClr val="000000"/>
              </a:solidFill>
              <a:latin typeface="Arial"/>
            </a:endParaRPr>
          </a:p>
        </p:txBody>
      </p:sp>
      <p:sp>
        <p:nvSpPr>
          <p:cNvPr id="174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nguage and</a:t>
            </a:r>
            <a:br>
              <a:rPr sz="3600"/>
            </a:br>
            <a:r>
              <a:rPr b="1" lang="en-US" sz="3600" spc="-1" strike="noStrike">
                <a:solidFill>
                  <a:srgbClr val="000000"/>
                </a:solidFill>
                <a:latin typeface="Arial"/>
              </a:rPr>
              <a:t>Cultural Differences</a:t>
            </a:r>
            <a:endParaRPr b="0" lang="en-US" sz="3600" spc="-1" strike="noStrike">
              <a:solidFill>
                <a:srgbClr val="000000"/>
              </a:solidFill>
              <a:latin typeface="Arial"/>
            </a:endParaRPr>
          </a:p>
        </p:txBody>
      </p:sp>
      <p:sp>
        <p:nvSpPr>
          <p:cNvPr id="174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5-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0" name=""/>
          <p:cNvSpPr txBox="1"/>
          <p:nvPr/>
        </p:nvSpPr>
        <p:spPr>
          <a:xfrm>
            <a:off x="457200" y="171612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audience adaptation plan should answer these questions:</a:t>
            </a:r>
            <a:endParaRPr b="0" lang="en-US" sz="32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y audience’s initial disposition toward my topic?</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mmon ground do audience members share with one another and with me?</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relevant will the audience find this material?</a:t>
            </a:r>
            <a:endParaRPr b="0" lang="en-US" sz="2800" spc="-1" strike="noStrike">
              <a:solidFill>
                <a:srgbClr val="000000"/>
              </a:solidFill>
              <a:latin typeface="Arial"/>
            </a:endParaRPr>
          </a:p>
        </p:txBody>
      </p:sp>
      <p:sp>
        <p:nvSpPr>
          <p:cNvPr id="1751"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ming a Specific Plan of Audience Adaptation</a:t>
            </a:r>
            <a:endParaRPr b="0" lang="en-US" sz="3600" spc="-1" strike="noStrike">
              <a:solidFill>
                <a:srgbClr val="000000"/>
              </a:solidFill>
              <a:latin typeface="Arial"/>
            </a:endParaRPr>
          </a:p>
        </p:txBody>
      </p:sp>
      <p:sp>
        <p:nvSpPr>
          <p:cNvPr id="1752"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5-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5-7</a:t>
            </a:r>
            <a:endParaRPr b="0" lang="en-US" sz="1600" spc="-1" strike="noStrike">
              <a:solidFill>
                <a:srgbClr val="000000"/>
              </a:solidFill>
              <a:latin typeface="Arial"/>
            </a:endParaRPr>
          </a:p>
        </p:txBody>
      </p:sp>
      <p:sp>
        <p:nvSpPr>
          <p:cNvPr id="1754" name=""/>
          <p:cNvSpPr txBox="1"/>
          <p:nvPr/>
        </p:nvSpPr>
        <p:spPr>
          <a:xfrm>
            <a:off x="457200" y="1789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audience adaptation plan should answer these questions:</a:t>
            </a:r>
            <a:endParaRPr b="0" lang="en-US" sz="3200" spc="-1" strike="noStrike">
              <a:solidFill>
                <a:srgbClr val="000000"/>
              </a:solidFill>
              <a:latin typeface="Arial"/>
            </a:endParaRPr>
          </a:p>
          <a:p>
            <a:pPr lvl="1" marL="647640" indent="-53316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I do to enhance my credibility?</a:t>
            </a:r>
            <a:endParaRPr b="0" lang="en-US" sz="2800" spc="-1" strike="noStrike">
              <a:solidFill>
                <a:srgbClr val="000000"/>
              </a:solidFill>
              <a:latin typeface="Arial"/>
            </a:endParaRPr>
          </a:p>
          <a:p>
            <a:pPr lvl="1" marL="647640" indent="-53316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I make it easier for audience members to comprehend and remember the information?</a:t>
            </a:r>
            <a:endParaRPr b="0" lang="en-US" sz="2800" spc="-1" strike="noStrike">
              <a:solidFill>
                <a:srgbClr val="000000"/>
              </a:solidFill>
              <a:latin typeface="Arial"/>
            </a:endParaRPr>
          </a:p>
          <a:p>
            <a:pPr lvl="1" marL="647640" indent="-53316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anguage or cultural differences do audience members have with one another and with me?</a:t>
            </a:r>
            <a:endParaRPr b="0" lang="en-US" sz="2800" spc="-1" strike="noStrike">
              <a:solidFill>
                <a:srgbClr val="000000"/>
              </a:solidFill>
              <a:latin typeface="Arial"/>
            </a:endParaRPr>
          </a:p>
        </p:txBody>
      </p:sp>
      <p:sp>
        <p:nvSpPr>
          <p:cNvPr id="1755"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ming a Specific Plan of Audience Adap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1724" name="PlaceHolder 2"/>
          <p:cNvSpPr>
            <a:spLocks noGrp="1"/>
          </p:cNvSpPr>
          <p:nvPr>
            <p:ph type="subTitle"/>
          </p:nvPr>
        </p:nvSpPr>
        <p:spPr>
          <a:xfrm>
            <a:off x="595440" y="1668600"/>
            <a:ext cx="7967520" cy="4906800"/>
          </a:xfrm>
          <a:prstGeom prst="rect">
            <a:avLst/>
          </a:prstGeom>
          <a:noFill/>
          <a:ln w="0">
            <a:noFill/>
          </a:ln>
        </p:spPr>
        <p:txBody>
          <a:bodyPr anchor="t">
            <a:noAutofit/>
          </a:bodyPr>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1</a:t>
            </a:r>
            <a:r>
              <a:rPr b="0" lang="en-US" sz="2400" spc="-1" strike="noStrike">
                <a:solidFill>
                  <a:srgbClr val="000000"/>
                </a:solidFill>
                <a:latin typeface="Arial"/>
              </a:rPr>
              <a:t> Address initial audience disposition toward your topic.</a:t>
            </a:r>
            <a:endParaRPr b="0" lang="en-US" sz="2400" spc="-1" strike="noStrike">
              <a:solidFill>
                <a:srgbClr val="000000"/>
              </a:solidFill>
              <a:latin typeface="Arial"/>
            </a:endParaRPr>
          </a:p>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2</a:t>
            </a:r>
            <a:r>
              <a:rPr b="0" lang="en-US" sz="2400" spc="-1" strike="noStrike">
                <a:solidFill>
                  <a:srgbClr val="000000"/>
                </a:solidFill>
                <a:latin typeface="Arial"/>
              </a:rPr>
              <a:t> Highlight common ground with your audience.</a:t>
            </a:r>
            <a:endParaRPr b="0" lang="en-US" sz="2400" spc="-1" strike="noStrike">
              <a:solidFill>
                <a:srgbClr val="000000"/>
              </a:solidFill>
              <a:latin typeface="Arial"/>
            </a:endParaRPr>
          </a:p>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3</a:t>
            </a:r>
            <a:r>
              <a:rPr b="0" lang="en-US" sz="2400" spc="-1" strike="noStrike">
                <a:solidFill>
                  <a:srgbClr val="000000"/>
                </a:solidFill>
                <a:latin typeface="Arial"/>
              </a:rPr>
              <a:t> Articulate the relevance of your speech to your audience.</a:t>
            </a:r>
            <a:endParaRPr b="0" lang="en-US" sz="2400" spc="-1" strike="noStrike">
              <a:solidFill>
                <a:srgbClr val="000000"/>
              </a:solidFill>
              <a:latin typeface="Arial"/>
            </a:endParaRPr>
          </a:p>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4</a:t>
            </a:r>
            <a:r>
              <a:rPr b="0" lang="en-US" sz="2400" spc="-1" strike="noStrike">
                <a:solidFill>
                  <a:srgbClr val="000000"/>
                </a:solidFill>
                <a:latin typeface="Arial"/>
              </a:rPr>
              <a:t> Establish your credibility as knowledgeable, trustworthy, and personable.</a:t>
            </a:r>
            <a:endParaRPr b="0" lang="en-US" sz="2400" spc="-1" strike="noStrike">
              <a:solidFill>
                <a:srgbClr val="000000"/>
              </a:solidFill>
              <a:latin typeface="Arial"/>
            </a:endParaRPr>
          </a:p>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5</a:t>
            </a:r>
            <a:r>
              <a:rPr b="0" lang="en-US" sz="2400" spc="-1" strike="noStrike">
                <a:solidFill>
                  <a:srgbClr val="000000"/>
                </a:solidFill>
                <a:latin typeface="Arial"/>
              </a:rPr>
              <a:t> Employ strategies to enhance comprehension and retention.</a:t>
            </a:r>
            <a:endParaRPr b="0" lang="en-US" sz="2400" spc="-1" strike="noStrike">
              <a:solidFill>
                <a:srgbClr val="000000"/>
              </a:solidFill>
              <a:latin typeface="Arial"/>
            </a:endParaRPr>
          </a:p>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6</a:t>
            </a:r>
            <a:r>
              <a:rPr b="0" lang="en-US" sz="2400" spc="-1" strike="noStrike">
                <a:solidFill>
                  <a:srgbClr val="000000"/>
                </a:solidFill>
                <a:latin typeface="Arial"/>
              </a:rPr>
              <a:t> Overcome potential language and cultural differences.</a:t>
            </a:r>
            <a:endParaRPr b="0" lang="en-US" sz="2400" spc="-1" strike="noStrike">
              <a:solidFill>
                <a:srgbClr val="000000"/>
              </a:solidFill>
              <a:latin typeface="Arial"/>
            </a:endParaRPr>
          </a:p>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7</a:t>
            </a:r>
            <a:r>
              <a:rPr b="0" lang="en-US" sz="2400" spc="-1" strike="noStrike">
                <a:solidFill>
                  <a:srgbClr val="000000"/>
                </a:solidFill>
                <a:latin typeface="Arial"/>
              </a:rPr>
              <a:t> Create your own audience adapta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0" y="-360"/>
            <a:ext cx="9144000" cy="13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Arial"/>
              </a:rPr>
              <a:t>Action</a:t>
            </a:r>
            <a:endParaRPr b="0" lang="en-US" sz="7200" spc="-1" strike="noStrike">
              <a:solidFill>
                <a:srgbClr val="000000"/>
              </a:solidFill>
              <a:latin typeface="Arial"/>
            </a:endParaRPr>
          </a:p>
        </p:txBody>
      </p:sp>
      <p:sp>
        <p:nvSpPr>
          <p:cNvPr id="1726" name=""/>
          <p:cNvSpPr txBox="1"/>
          <p:nvPr/>
        </p:nvSpPr>
        <p:spPr>
          <a:xfrm>
            <a:off x="457200" y="183204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derstand your audience and adapt to it.</a:t>
            </a:r>
            <a:endParaRPr b="0" lang="en-US" sz="4000" spc="-1" strike="noStrike">
              <a:solidFill>
                <a:srgbClr val="000000"/>
              </a:solidFill>
              <a:latin typeface="Arial"/>
            </a:endParaRPr>
          </a:p>
          <a:p>
            <a:pPr lvl="1" marL="971640" indent="-514440">
              <a:spcBef>
                <a:spcPts val="9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stand audience diversity.</a:t>
            </a:r>
            <a:endParaRPr b="0" lang="en-US" sz="3600" spc="-1" strike="noStrike">
              <a:solidFill>
                <a:srgbClr val="000000"/>
              </a:solidFill>
              <a:latin typeface="Arial"/>
            </a:endParaRPr>
          </a:p>
          <a:p>
            <a:pPr lvl="1" marL="971640" indent="-514440">
              <a:spcBef>
                <a:spcPts val="9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ilor your speech to address their needs, interests, and expect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udience adaptation</a:t>
            </a:r>
            <a:endParaRPr b="0" lang="en-US" sz="6600" spc="-1" strike="noStrike">
              <a:solidFill>
                <a:srgbClr val="000000"/>
              </a:solidFill>
              <a:latin typeface="Arial"/>
            </a:endParaRPr>
          </a:p>
        </p:txBody>
      </p:sp>
      <p:sp>
        <p:nvSpPr>
          <p:cNvPr id="1728" name="PlaceHolder 2"/>
          <p:cNvSpPr>
            <a:spLocks noGrp="1"/>
          </p:cNvSpPr>
          <p:nvPr>
            <p:ph type="subTitle"/>
          </p:nvPr>
        </p:nvSpPr>
        <p:spPr>
          <a:xfrm>
            <a:off x="174600" y="2147400"/>
            <a:ext cx="8794800" cy="37450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process of tailoring your speech’s information to the needs, interests, and expectations of your listener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9" name=""/>
          <p:cNvSpPr txBox="1"/>
          <p:nvPr/>
        </p:nvSpPr>
        <p:spPr>
          <a:xfrm>
            <a:off x="457200" y="17748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 audience disposition is the knowledge and opinions your audience has about your topic before they hear you speak.</a:t>
            </a:r>
            <a:endParaRPr b="0" lang="en-US" sz="4000" spc="-1" strike="noStrike">
              <a:solidFill>
                <a:srgbClr val="000000"/>
              </a:solidFill>
              <a:latin typeface="Arial"/>
            </a:endParaRPr>
          </a:p>
        </p:txBody>
      </p:sp>
      <p:sp>
        <p:nvSpPr>
          <p:cNvPr id="1730"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itial Audience Disposition</a:t>
            </a:r>
            <a:endParaRPr b="0" lang="en-US" sz="4000" spc="-1" strike="noStrike">
              <a:solidFill>
                <a:srgbClr val="000000"/>
              </a:solidFill>
              <a:latin typeface="Arial"/>
            </a:endParaRPr>
          </a:p>
        </p:txBody>
      </p:sp>
      <p:sp>
        <p:nvSpPr>
          <p:cNvPr id="173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5-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2" name=""/>
          <p:cNvSpPr txBox="1"/>
          <p:nvPr/>
        </p:nvSpPr>
        <p:spPr>
          <a:xfrm>
            <a:off x="457200" y="171612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 a speaker, your goal is to identify and highlight common groun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build common ground by:</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personal pronou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ing rhetorical ques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ing on common experiences</a:t>
            </a:r>
            <a:endParaRPr b="0" lang="en-US" sz="2800" spc="-1" strike="noStrike">
              <a:solidFill>
                <a:srgbClr val="000000"/>
              </a:solidFill>
              <a:latin typeface="Arial"/>
            </a:endParaRPr>
          </a:p>
        </p:txBody>
      </p:sp>
      <p:sp>
        <p:nvSpPr>
          <p:cNvPr id="1733"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mmon Ground</a:t>
            </a:r>
            <a:endParaRPr b="0" lang="en-US" sz="5400" spc="-1" strike="noStrike">
              <a:solidFill>
                <a:srgbClr val="000000"/>
              </a:solidFill>
              <a:latin typeface="Arial"/>
            </a:endParaRPr>
          </a:p>
        </p:txBody>
      </p:sp>
      <p:sp>
        <p:nvSpPr>
          <p:cNvPr id="173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5-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5" name=""/>
          <p:cNvSpPr txBox="1"/>
          <p:nvPr/>
        </p:nvSpPr>
        <p:spPr>
          <a:xfrm>
            <a:off x="457200" y="1760040"/>
            <a:ext cx="8229600" cy="4526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must adapt information in your speech so it is </a:t>
            </a:r>
            <a:r>
              <a:rPr b="0" i="1" lang="en-US" sz="3600" spc="-1" strike="noStrike">
                <a:solidFill>
                  <a:srgbClr val="000000"/>
                </a:solidFill>
                <a:latin typeface="Arial"/>
              </a:rPr>
              <a:t>relevant</a:t>
            </a:r>
            <a:r>
              <a:rPr b="0" lang="en-US" sz="3600" spc="-1" strike="noStrike">
                <a:solidFill>
                  <a:srgbClr val="000000"/>
                </a:solidFill>
                <a:latin typeface="Arial"/>
              </a:rPr>
              <a:t> (important) to listeners.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do so by demonstrating the information’s:</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im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impa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levance</a:t>
            </a:r>
            <a:endParaRPr b="0" lang="en-US" sz="5400" spc="-1" strike="noStrike">
              <a:solidFill>
                <a:srgbClr val="000000"/>
              </a:solidFill>
              <a:latin typeface="Arial"/>
            </a:endParaRPr>
          </a:p>
        </p:txBody>
      </p:sp>
      <p:sp>
        <p:nvSpPr>
          <p:cNvPr id="173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8"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 adaptation techniques can affect an audience’s confidence in the speaker, or </a:t>
            </a:r>
            <a:r>
              <a:rPr b="0" i="1" lang="en-US" sz="3600" spc="-1" strike="noStrike">
                <a:solidFill>
                  <a:srgbClr val="000000"/>
                </a:solidFill>
                <a:latin typeface="Arial"/>
              </a:rPr>
              <a:t>credibility</a:t>
            </a:r>
            <a:r>
              <a:rPr b="0" lang="en-US" sz="3600" spc="-1" strike="noStrike">
                <a:solidFill>
                  <a:srgbClr val="000000"/>
                </a:solidFill>
                <a:latin typeface="Arial"/>
              </a:rPr>
              <a:t>:</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ulating knowledge and expert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ying trustworthi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ing personableness</a:t>
            </a:r>
            <a:endParaRPr b="0" lang="en-US" sz="2800" spc="-1" strike="noStrike">
              <a:solidFill>
                <a:srgbClr val="000000"/>
              </a:solidFill>
              <a:latin typeface="Arial"/>
            </a:endParaRPr>
          </a:p>
        </p:txBody>
      </p:sp>
      <p:sp>
        <p:nvSpPr>
          <p:cNvPr id="1739"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redibility</a:t>
            </a:r>
            <a:endParaRPr b="0" lang="en-US" sz="5400" spc="-1" strike="noStrike">
              <a:solidFill>
                <a:srgbClr val="000000"/>
              </a:solidFill>
              <a:latin typeface="Arial"/>
            </a:endParaRPr>
          </a:p>
        </p:txBody>
      </p:sp>
      <p:sp>
        <p:nvSpPr>
          <p:cNvPr id="1740"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5-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1" name=""/>
          <p:cNvSpPr txBox="1"/>
          <p:nvPr/>
        </p:nvSpPr>
        <p:spPr>
          <a:xfrm>
            <a:off x="457200" y="1789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lines for Adapting Information to Help Audiences Understand and Remember</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l to diverse learning styles.</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ent the audience with transitions.</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specific and familiar language.</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ivid language and examples.</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unfamiliar ideas with familiar ones.</a:t>
            </a:r>
            <a:endParaRPr b="0" lang="en-US" sz="2800" spc="-1" strike="noStrike">
              <a:solidFill>
                <a:srgbClr val="000000"/>
              </a:solidFill>
              <a:latin typeface="Arial"/>
            </a:endParaRPr>
          </a:p>
        </p:txBody>
      </p:sp>
      <p:sp>
        <p:nvSpPr>
          <p:cNvPr id="1742"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ormation</a:t>
            </a:r>
            <a:br>
              <a:rPr sz="3600"/>
            </a:br>
            <a:r>
              <a:rPr b="1" lang="en-US" sz="3600" spc="-1" strike="noStrike">
                <a:solidFill>
                  <a:srgbClr val="000000"/>
                </a:solidFill>
                <a:latin typeface="Arial"/>
              </a:rPr>
              <a:t>Comprehension and Retention</a:t>
            </a:r>
            <a:endParaRPr b="0" lang="en-US" sz="3600" spc="-1" strike="noStrike">
              <a:solidFill>
                <a:srgbClr val="000000"/>
              </a:solidFill>
              <a:latin typeface="Arial"/>
            </a:endParaRPr>
          </a:p>
        </p:txBody>
      </p:sp>
      <p:sp>
        <p:nvSpPr>
          <p:cNvPr id="174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5-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GINA WEERS</cp:lastModifiedBy>
  <dcterms:modified xsi:type="dcterms:W3CDTF">2016-03-14T06:55:29Z</dcterms:modified>
  <cp:revision>319</cp:revision>
  <dc:subject/>
  <dc:title>Chapter One</dc:title>
</cp:coreProperties>
</file>